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413-0C6F-42FB-BE12-FE1CA668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94F-F047-4463-AE81-9E67A4C39B72}" type="slidenum">
              <a:rPr b="0" lang="en-GB" sz="1200" spc="-1" strike="noStrike">
                <a:solidFill>
                  <a:srgbClr val="1d17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6EB8-AEB7-4314-85B0-7F1479CEC4EF}" type="slidenum">
              <a:rPr b="0" lang="en-US" sz="1200" spc="-1" strike="noStrike">
                <a:solidFill>
                  <a:srgbClr val="1d17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1A00-9C10-4E0D-99B3-223BC88BD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CF36-A21F-4981-ACFD-5D5961D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8DE1A-105B-4C1E-9501-0C24CEF2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47B68-705D-46E0-9E82-3442C10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C9901-E7E5-461C-8E05-E22371F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CF206-B842-4231-B215-9D0B206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1D26E-A0D3-41B2-AF6A-B3E32AC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1B47B-61DF-40A3-A5A4-0F55097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3754B-3732-401C-B800-8732B0BE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39FA6-01C0-4DBB-9218-1DB841FE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57116A-2E08-4C44-B11E-EABB5207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9ADBF2-A636-43C6-BB21-FD99AFF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E478-E0F6-4DEE-8144-D45AC443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98F44D-1B75-4B3F-BF14-E8A2078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98213-3823-4666-AD38-9020731F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EB4F29-8A0A-4DF2-82EE-A7B5527C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1B4B78-B289-4403-9288-DC2A13F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3A4D8-E4DC-40B0-9D6E-D1557DC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7EFDE0-3CE2-4B18-822F-938C1CE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A9D2D-C97C-4D02-A175-0FF192B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76E784-281A-44F4-A548-6FE5911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50F16-7F40-4455-95FF-9E8A6E80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523BA9-9D0E-46EA-8956-D18B7C9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9E72-035F-4F5A-8A97-B26CB9114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7468F-634F-4E2F-86D0-226B2792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05A641-940C-4F67-A1C5-C4CB6F85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62CF42-8D6E-472A-8EBD-B5BAA86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E8987-BB77-4A62-BCB2-A6EB4BC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10352-A6EC-419E-A21C-A33459C8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1AB9C-E05B-4614-B2D5-3AFEA8E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8FAC2-54C4-4C83-A892-35425026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35804C-AB1E-4F6F-B34A-4C5F7F4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2C96DF-60EA-44B5-BD65-1B23EE7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B6E91-DD8B-4901-A6A4-E0C5FEA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833D9-8FCA-4188-B1AB-EABD2EEE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BE7539-1864-4D32-81F7-DD00D54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08723F-05CE-49A7-B060-37FB455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D3C3DD-E30A-467F-8F91-9C7A8FD2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2E3DFA-011D-4F73-AED7-B0D80853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6F0C0F-EFFC-4278-9D35-374553BF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BD2DD2-E779-4CA9-81D2-6735173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C436F-C222-425E-99AB-F8E052B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52E85A-86B4-4274-B8A4-1BB05D8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D09D0F-2AF0-46D1-A93C-57F82FFC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F477C5-CFCC-4A9E-8176-F605067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501A0-1E88-4C9C-A480-275CEFC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673117-0B66-4851-AC2E-B01C522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684857-E3E9-4377-B376-A072C75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E265F8-F52E-42C1-B8B7-9D834AE3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ADD705-D27B-4F67-94A2-E8D0F7D4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BC4C9B-EF73-4FA7-8964-3061301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0C4D-53FE-46F9-8F69-7F53009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377CE-6891-4AC3-99F0-23E20824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F963-CE92-4FF2-B97A-73A1F80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0A0F-FD44-4CF1-81B4-C5E7569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C0C6-1D97-45BB-9FA5-2BD79CB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91BB-8785-4C8E-A87B-805507E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AECB-9EF3-4D95-8061-62FF94F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6A7A-E4ED-4C13-8CD5-314F4AA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5E7B-585C-4D8D-8FA9-592BDF7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07BEC-AAB4-41D6-AA55-D5BEBC3C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B297-6831-4774-A9E0-B687858E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CC6EB-9E8D-4688-8A92-B9B1A921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7A5AB-73FF-4034-A4DC-EA1B2C9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D2A11-91A2-4A6B-BB23-0D24549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0D332-D18D-427E-B2A8-E30CB58E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0648-0258-4225-A8CB-79933F5C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9373-78E9-44F5-82D3-7FDF8F4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2E70B-5D95-4363-8522-B666713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FBBAE-51B8-442C-91BA-2F9A493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D1368-DA0E-4D03-B981-8B12435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53F90-0181-45D5-89B1-D37A4979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2C3EF-ABFF-4DCF-869E-74B7F50B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13C5F-1C82-42D9-8EEF-12319CF7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7D209-18D4-4A3B-8B92-8D3E6796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36338-4F01-4C83-ABA9-F1C7B6A7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9B826-388C-4BFB-B785-0BBDE45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3E7F2-D721-4B96-9918-6A3FC85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0D31-6FCA-4B6D-95EB-FF75F953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8835F-6DC0-4F80-84BC-E8DFA7F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F7CD0-7F7E-402D-B506-3C2F695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15BD1-67A6-4F2B-AB4C-3519C7A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C0FDB-7BF2-4D65-A940-79A6AA5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E099C-2DAD-42AC-9D28-FBD3536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0E438-584E-4019-9993-3424562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AEB7B-06BD-4BCF-9AE4-31A8FF2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8D317-C27F-4F8A-B833-CB1C8936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2B050-6D5B-469F-8031-3085E7FA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802ED-D8C2-4E95-8E54-B113939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1534-3718-40AD-8EED-D19936D7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214DA-808B-42DC-83DC-A43BFD8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929AD-B6E7-4CBA-A6AD-96E1449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0B134-3217-4D75-B924-F33D1B6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5B714-475A-4437-B06A-76DC0AA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82828-80AB-45E3-861E-654A07FF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7DC32-30A7-45C9-8D5A-1990CFA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4A026-5148-4B9F-AED1-CBA81DD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7D675-6DB6-4281-B00D-4E61591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13065-FCC3-4F2A-8F1E-5B4D298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D7504-BA45-4EA1-9A33-926C0F7C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3BD6-6EB5-4825-9ABC-C01D4243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6A948-6740-43CB-8854-85E0024E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49E50-76BD-40AF-8273-819808DC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40AFE-689F-4116-96B5-E9A9451A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B976C-2A82-45A2-8ABF-12D5C25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400A9-3E63-4660-A77D-B001506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333E1-2663-4B6D-8F96-14C5581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5410E-C4FF-4A52-B15D-11F32B9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47B18-B2AD-42BC-A4A3-86A36CB8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D4149-0682-41DB-9A4A-C3521E6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6FBB7-437D-4B42-B595-7AC2D19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0A9D-CED8-4608-B6B8-5015798D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5D991-6523-419B-A00C-FD0C1019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76B21-7FE4-4E39-97CA-0120D352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B933C-CC33-455D-9563-428F4BA9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AD407-086A-4A05-A22D-061E59A4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336DA-1F4E-49C3-9900-DCF1C0CE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F9E9F-DDCD-415B-A300-B79259E7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8AF70-AC9F-4A19-B733-73EDD51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1062D-2D7B-4DAF-8CA2-6DD9125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03A67-CE7A-4DD3-AF67-B71CF08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64FF1-0D6A-4EF1-8EB3-0FF606F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6B1D-5362-46B2-9B66-EED3ECD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D4C33-0231-4998-9BED-CF02FD2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E72A0-5D17-47DF-BDDF-8747FA3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F3AF5-F92E-434F-B72E-A4F5A0C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07D0D-9FA8-4727-B3CD-328A71A4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EA891-F6F8-4B4A-93B2-89B5CE9E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AE2E3C-B3C5-47CE-B1C6-77BB8E88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DBD11-BB17-47EA-94C0-DCBE855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14B8D-9BBF-41F6-9C85-76AB1828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EED07-7872-47D4-9F89-AF2743F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11B81-653B-4050-AB66-092B162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1CC6-C9CA-4394-9264-55BBD3E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ACEE4-8818-4814-8FC6-D2FC98B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B2F6D-E277-40C2-A9F1-01DB680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030C8-F76A-4D41-8574-FD3259F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842DF-FEB2-4F17-BE54-4207A56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0086E-94D0-4C2F-85B5-AF94F3D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146B1-BF0E-476E-8E89-2CB2293C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ED232-3DB2-45F0-B65D-A69EE6F0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BE530C-A944-4822-8510-6975F5EE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CB2BA3-8BA5-434D-A816-F0CDB67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B0C0A-C398-46AB-8798-CDC6FBBA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B75-2292-470B-B13C-EFDC9287F10A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C78C-8071-4C02-AE4F-7389ED79AC55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5CB-C78C-485E-B39F-28E9B2BDD7A2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3505320" y="632412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58672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767-02BC-4570-B12F-A807DAB1B342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DAF-8655-4AA3-9AFC-BA28D3C56804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00B9-E4B3-4FBE-9161-F547433CB96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BF7-5414-43F0-A83D-FFE8C0BBB898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9234-6551-4849-AB77-1E206C7BCEF8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C623-7ADC-4417-B80E-BFDA3055DC32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7D86-7BA9-4528-AF06-4A6A361AA2DB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A0D-534A-41AD-9219-09F0D4C0661F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ppt-b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175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d1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d17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17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75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30481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45684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523-FB34-4E83-864A-9D5ECD98EC3C}" type="slidenum">
              <a:rPr b="0" lang="en-US" sz="1200" spc="-1" strike="noStrike">
                <a:solidFill>
                  <a:srgbClr val="8b8b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304920" y="228600"/>
          <a:ext cx="8610480" cy="632304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623880">
                <a:tc gridSpan="2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               </a:t>
                      </a:r>
                      <a:r>
                        <a:rPr b="1" lang="en-US" sz="3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mall Group Lesson</a:t>
                      </a:r>
                      <a:endParaRPr b="0" lang="en-US" sz="3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Calibri"/>
                          <a:ea typeface="ＭＳ Ｐゴシック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58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name few basic two-dimensional shapes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troduce the shapes (triangle and square) to the students. 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hen demonstrate how to use the straws to form triangle and square.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create shapes with the straws to match a shape they see on the tabl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take turn to pick two shapes and name them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, geometric  shapes (tangrams), and straws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M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 b. 3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Learning Objective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will be able to identify and describe basic shapes when moved, 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ctivity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raw Shape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Procedure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the students to take a look at the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angrams (triangle, square, and rectangle) let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udents explo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talk about the names of the shapes and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what their attributes are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name shapes when moved,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urned, and 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d17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 will invite students to make their own shapes 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and describe the shapes when moved, turned and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flipped.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aterials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 ITC-M42 : geometric  shapes(tangrams) and straws/pipe cleaners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Standard :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M. 4.4.2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TCCO: </a:t>
                      </a:r>
                      <a:r>
                        <a:rPr b="0" lang="en-US" sz="1600" spc="-1" strike="noStrike">
                          <a:solidFill>
                            <a:srgbClr val="1d1756"/>
                          </a:solidFill>
                          <a:latin typeface="Tw Cen MT"/>
                          <a:ea typeface="ＭＳ Ｐゴシック"/>
                        </a:rPr>
                        <a:t>21b. 5</a:t>
                      </a: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d1756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304920"/>
            <a:ext cx="84945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756"/>
                </a:solidFill>
                <a:latin typeface="Constantia"/>
              </a:rPr>
              <a:t>Sample WGL Plan </a:t>
            </a:r>
            <a:endParaRPr b="0" lang="en-US" sz="2400" spc="-1" strike="noStrike">
              <a:solidFill>
                <a:srgbClr val="1d1756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756"/>
                </a:solidFill>
                <a:latin typeface="Constantia"/>
              </a:rPr>
              <a:t>(PreK-</a:t>
            </a:r>
            <a:r>
              <a:rPr b="1" lang="en-US" sz="2000" spc="-1" strike="noStrike">
                <a:solidFill>
                  <a:srgbClr val="1d1756"/>
                </a:solidFill>
                <a:latin typeface="Calibri"/>
              </a:rPr>
              <a:t>4)</a:t>
            </a:r>
            <a:endParaRPr b="0" lang="en-US" sz="20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Activity:  Trees Count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Learning Objective: Students will recognize words that rhyme in a text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Procedures: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mind children that rhyming words have the same ending sound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pg</a:t>
            </a:r>
            <a:r>
              <a:rPr b="0" lang="en-US" sz="1800" spc="-1" strike="noStrike">
                <a:solidFill>
                  <a:srgbClr val="1d1756"/>
                </a:solidFill>
                <a:latin typeface="Calibri"/>
                <a:ea typeface="Arial"/>
              </a:rPr>
              <a:t> 3 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and emphasize the words that rhyme (fun/one) and children will repeat the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read each page and ask children to say the words that rhyme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T will close the lesson by asking children to recall rhyming words from the text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1d175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If children are able, T will ask them to </a:t>
            </a:r>
            <a:r>
              <a:rPr b="1" i="1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produce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  <a:ea typeface="Arial"/>
              </a:rPr>
              <a:t> additional rhyming words.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Materials: Trees Count (Big book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TCCO: 15a (Notices and discriminates rhyme) 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756"/>
                </a:solidFill>
                <a:latin typeface="Constantia"/>
              </a:rPr>
              <a:t>RF.PK.2a (</a:t>
            </a:r>
            <a:r>
              <a:rPr b="0" lang="en-US" sz="1800" spc="-1" strike="noStrike">
                <a:solidFill>
                  <a:srgbClr val="1d1756"/>
                </a:solidFill>
                <a:latin typeface="Constantia"/>
              </a:rPr>
              <a:t>Recognize and produce simple rhyming words)</a:t>
            </a:r>
            <a:endParaRPr b="0" lang="en-US" sz="1800" spc="-1" strike="noStrike">
              <a:solidFill>
                <a:srgbClr val="1d17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5:40:28Z</dcterms:created>
  <dc:creator>ggarbeck</dc:creator>
  <dc:description/>
  <dc:language>en-US</dc:language>
  <cp:lastModifiedBy>Asma, Farida</cp:lastModifiedBy>
  <cp:lastPrinted>2014-11-04T20:09:28Z</cp:lastPrinted>
  <dcterms:modified xsi:type="dcterms:W3CDTF">2015-09-10T06:12:58Z</dcterms:modified>
  <cp:revision>193</cp:revision>
  <dc:subject/>
  <dc:title>Slide 1</dc:title>
</cp:coreProperties>
</file>